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34F-165C-4D40-B071-0FD4B8C6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D2E-4CD8-4C33-A57D-A91B78A9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BF7-E898-4843-A72E-50BFF868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0EF6-E188-4F3E-92A6-CAE3109B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101-8684-4B7F-A1CF-8ACA90E8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A58-7181-4B70-97C2-2E243C4D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DF1E-0B6F-47AB-90F8-7C76B7FD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536-CC9D-4B9F-9515-F2B09CAE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3A0-2C6F-48E7-B16B-81136E76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5A1-E22A-42D5-A488-613E9FFD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1E4F-C08F-4BCA-8670-1C46B7CA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59A-E71C-438F-8E9E-681D6098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2AC7-A8EE-4D64-A537-40CC3B1EA3B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nvestor100.ru/wp-content/uploads/2014/11/ec0ef7156708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3"/>
          <p:cNvSpPr/>
          <p:nvPr/>
        </p:nvSpPr>
        <p:spPr>
          <a:xfrm>
            <a:off x="2195640" y="3405240"/>
            <a:ext cx="723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Ролевая игра как приём формирования функциональной грамотности у младших шк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4"/>
          <p:cNvSpPr/>
          <p:nvPr/>
        </p:nvSpPr>
        <p:spPr>
          <a:xfrm>
            <a:off x="4229280" y="2349360"/>
            <a:ext cx="3170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1258920" y="260280"/>
            <a:ext cx="684216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ённое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егарская средняя общеобразовательная школа №2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4929120" y="6080040"/>
            <a:ext cx="4032360" cy="77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а Раиса Григорье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Boney_M_-_Money_Money_(iPleer.fm) (1)-[AudioTrimmer.com].mp3" descr=""/>
          <p:cNvPicPr/>
          <p:nvPr/>
        </p:nvPicPr>
        <p:blipFill>
          <a:blip r:embed="rId2"/>
          <a:stretch/>
        </p:blipFill>
        <p:spPr>
          <a:xfrm>
            <a:off x="250920" y="6210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662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4748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ая игр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79840" y="1181160"/>
            <a:ext cx="558000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b6b51"/>
                </a:solidFill>
                <a:latin typeface="Times New Roman"/>
                <a:ea typeface="Times New Roman"/>
              </a:rPr>
              <a:t>Участники иг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Белки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Волков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Зайцев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457200" y="3645000"/>
            <a:ext cx="8075520" cy="29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: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читать сумму доходов и рас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суммы доходов вычесть 10% на формирование финансовой подушки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ить на вопрос: «Рационально ли члены семьи тратят деньги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Картинки по запросу семья считает деньги картинки"/>
          <p:cNvPicPr/>
          <p:nvPr/>
        </p:nvPicPr>
        <p:blipFill>
          <a:blip r:embed="rId1"/>
          <a:stretch/>
        </p:blipFill>
        <p:spPr>
          <a:xfrm>
            <a:off x="457200" y="1257480"/>
            <a:ext cx="341640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лучше хранить деньг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s://planetanezhnosti.ru/wp-content/uploads/2017/06/vsyo-o-dengah.jpg"/>
          <p:cNvPicPr/>
          <p:nvPr/>
        </p:nvPicPr>
        <p:blipFill>
          <a:blip r:embed="rId1"/>
          <a:stretch/>
        </p:blipFill>
        <p:spPr>
          <a:xfrm>
            <a:off x="2627280" y="1165320"/>
            <a:ext cx="35751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ья Белкиных ежемесячно откладывает сумму в размере 5.500 руб. Каков размер ФПБ будет у них через г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: 66 000 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9" descr="http://povelitelnica.com.ua/images/raznoe4/zvqfiBshw.jpg"/>
          <p:cNvPicPr/>
          <p:nvPr/>
        </p:nvPicPr>
        <p:blipFill>
          <a:blip r:embed="rId1"/>
          <a:stretch/>
        </p:blipFill>
        <p:spPr>
          <a:xfrm>
            <a:off x="5076720" y="3213000"/>
            <a:ext cx="38880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5"/>
          <p:cNvSpPr/>
          <p:nvPr/>
        </p:nvSpPr>
        <p:spPr>
          <a:xfrm>
            <a:off x="971640" y="1989000"/>
            <a:ext cx="7416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b6b51"/>
                </a:solidFill>
                <a:latin typeface="Times New Roman"/>
                <a:ea typeface="Calibri"/>
              </a:rPr>
              <a:t>Цель ролевой игр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понятия «финансовая подушка безопасности», как основа грамотного ведения семейного бюджета и одна из возможностей реализации своих заветных жел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послов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ЕТ, ЛЮБЯТ,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ЕТ, РУБЛЬ, КОПЕ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Ы, НЕ, ДЕНЬГИ, КЛЮ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44480" y="170028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ейка – рубль береж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Картинки по запросу копейки картинки"/>
          <p:cNvPicPr/>
          <p:nvPr/>
        </p:nvPicPr>
        <p:blipFill>
          <a:blip r:embed="rId1"/>
          <a:stretch/>
        </p:blipFill>
        <p:spPr>
          <a:xfrm>
            <a:off x="2340000" y="3219480"/>
            <a:ext cx="50385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547640" y="1988640"/>
            <a:ext cx="648504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b6b51"/>
                </a:solidFill>
                <a:latin typeface="Times New Roman"/>
                <a:ea typeface="Calibri"/>
              </a:rPr>
              <a:t>Всего вам доброг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cb6b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900igr.net/up/datas/233612/002.jpg"/>
          <p:cNvPicPr/>
          <p:nvPr/>
        </p:nvPicPr>
        <p:blipFill>
          <a:blip r:embed="rId1"/>
          <a:srcRect l="39638" t="45491" r="8390" b="4115"/>
          <a:stretch/>
        </p:blipFill>
        <p:spPr>
          <a:xfrm>
            <a:off x="2735280" y="3389400"/>
            <a:ext cx="367344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1042920" y="981000"/>
            <a:ext cx="746928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Картинки по запросу финансовой грамотности учебник начальные класс"/>
          <p:cNvPicPr/>
          <p:nvPr/>
        </p:nvPicPr>
        <p:blipFill>
          <a:blip r:embed="rId1"/>
          <a:stretch/>
        </p:blipFill>
        <p:spPr>
          <a:xfrm>
            <a:off x="22320" y="1773360"/>
            <a:ext cx="4809960" cy="265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Картинки по запросу финансовой грамотности учебник начальные класс"/>
          <p:cNvPicPr/>
          <p:nvPr/>
        </p:nvPicPr>
        <p:blipFill>
          <a:blip r:embed="rId2"/>
          <a:stretch/>
        </p:blipFill>
        <p:spPr>
          <a:xfrm>
            <a:off x="5076720" y="1366920"/>
            <a:ext cx="3768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Картинки по запросу финансовой грамотности учебник начальные класс"/>
          <p:cNvPicPr/>
          <p:nvPr/>
        </p:nvPicPr>
        <p:blipFill>
          <a:blip r:embed="rId1"/>
          <a:stretch/>
        </p:blipFill>
        <p:spPr>
          <a:xfrm>
            <a:off x="684360" y="1125360"/>
            <a:ext cx="721044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1628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одушка безопас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 ее разм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отклады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хранить деньги и в каких валют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финансовая подушка безопасно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988640"/>
            <a:ext cx="845676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Б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Я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РНЫЙ ДЕН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право 12"/>
          <p:cNvSpPr/>
          <p:nvPr/>
        </p:nvSpPr>
        <p:spPr>
          <a:xfrm>
            <a:off x="1979640" y="2276640"/>
            <a:ext cx="936720" cy="28872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cb6b5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углом вверх 13"/>
          <p:cNvSpPr/>
          <p:nvPr/>
        </p:nvSpPr>
        <p:spPr>
          <a:xfrm rot="5400000">
            <a:off x="4006440" y="3155760"/>
            <a:ext cx="792000" cy="617400"/>
          </a:xfrm>
          <a:prstGeom prst="pie">
            <a:avLst/>
          </a:prstGeom>
          <a:solidFill>
            <a:srgbClr val="cb6b5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4" descr="Финансовая подушка безопасност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716280"/>
            <a:ext cx="2879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95280" y="1844640"/>
            <a:ext cx="82296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cb6b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6b51"/>
                </a:solidFill>
                <a:latin typeface="Times New Roman"/>
                <a:ea typeface="Times New Roman"/>
              </a:rPr>
              <a:t>Финансовая подушка безопас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некие накопления денежных средств, которые могут срочно понадобиться человеку в самой неожиданной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148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 размер ФПБ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halvacarta.ru/sites/default/files/statyaimage/dokumentu-na-kartu-halva.png"/>
          <p:cNvPicPr/>
          <p:nvPr/>
        </p:nvPicPr>
        <p:blipFill>
          <a:blip r:embed="rId1"/>
          <a:stretch/>
        </p:blipFill>
        <p:spPr>
          <a:xfrm>
            <a:off x="501480" y="1989000"/>
            <a:ext cx="79869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712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откладывать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Объект 3" descr="Как создать финансовую подушку"/>
          <p:cNvPicPr/>
          <p:nvPr/>
        </p:nvPicPr>
        <p:blipFill>
          <a:blip r:embed="rId1"/>
          <a:stretch/>
        </p:blipFill>
        <p:spPr>
          <a:xfrm>
            <a:off x="250920" y="1557360"/>
            <a:ext cx="4105080" cy="25192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3203640" y="4221000"/>
            <a:ext cx="56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е правило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месячно откладывайте сумму в пределах 10% от до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3-02-16T16:45:45Z</dcterms:modified>
  <cp:revision>775</cp:revision>
  <dc:subject/>
  <dc:title>Diapositiva 1</dc:title>
</cp:coreProperties>
</file>